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B58-C864-4753-8AE3-1898DBD2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027-D38A-4193-AB25-F477B886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82D-2005-45DE-BDA1-2D84C4A6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F11-3C61-4696-9815-000C7C3B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1B6-E226-44BB-A37E-DE99C9C8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E5C-BFB9-4B13-9DF9-963D279F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085-A1D6-4EA2-B158-5E1339AD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5CA-FEF3-4766-9312-AA051756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875-0CF6-4865-82A9-AF2D1429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E6A-06B9-4471-AA3A-9FB85552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BF5-3BDC-4566-B927-1DBC711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3E6-9E70-4A9F-84E0-7E75E11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D2EC-2D09-40BC-B057-0172C0004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Transition matrice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.e. After 1 month, there are 285 customers at store A and 315 at store B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imilarly, the state after month 2,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, can be found by applying the same transition to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Hence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214720" y="3857760"/>
            <a:ext cx="2009520" cy="552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2714760" y="4572000"/>
            <a:ext cx="4076640" cy="895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2714760" y="5643720"/>
            <a:ext cx="1923840" cy="8953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How many customers are expected in each store after 10 months?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t is inefficient to repeat this operation 10 tim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ince the transition matrix is the same each time we can raise it to a power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or instance, we could find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by calculating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857160" y="5857920"/>
            <a:ext cx="2219400" cy="5522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3214800" y="5572080"/>
            <a:ext cx="4267080" cy="990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329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imilarly, we can find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1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by calculating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ounding, there are 267 customers in store A and 333 in store B after ten month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2533680" cy="552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1500120" y="3071880"/>
            <a:ext cx="4429080" cy="990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1500120" y="4286160"/>
            <a:ext cx="19242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d 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and 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 How many customers are expected in each store after 50 months? After 51 months?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5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428480"/>
            <a:ext cx="8286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hen T is raised to large powers, the transition matrices start to look the same (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). This form of the transition matrix is 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steady state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r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long term transition matrix, T</a:t>
            </a:r>
            <a:r>
              <a:rPr b="1" lang="en-AU" sz="3200" spc="-1" strike="noStrike" baseline="30000">
                <a:solidFill>
                  <a:srgbClr val="000000"/>
                </a:solidFill>
                <a:latin typeface="Cambria Math"/>
              </a:rPr>
              <a:t>∞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tates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50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d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5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also look identical. When this happens, the problem has reached 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steady stat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e can use large powers of T to test whether the steady state has occurred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Note: There is no steady state if T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contains any zero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 our problem, the steady state means that we can expect 267 customers in shop A and 333 in shop B in the long term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orked example 19 on p.85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ercise 16F: 1, 2, 3, 4, 6, 7, 9, 10, 11, 13, 15, 16, 17, 21, 22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Powers of matric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213920"/>
            <a:ext cx="8286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Only square matrices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can be raised to a power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214280" y="2286000"/>
            <a:ext cx="3353040" cy="771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785880" y="3071880"/>
            <a:ext cx="5143320" cy="771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1285920" y="4000680"/>
            <a:ext cx="5848200" cy="780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1285920" y="4857840"/>
            <a:ext cx="2028960" cy="780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On a CAS calculator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ype       to get the answer 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1943280" cy="77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571760" y="3000240"/>
            <a:ext cx="371520" cy="48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5214960" y="2857680"/>
            <a:ext cx="202896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d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d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4076640" cy="7808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2000160" y="3429000"/>
            <a:ext cx="41904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2000160" y="2857680"/>
            <a:ext cx="3812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Markov Systems and Transitions Matrice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See Worked Example 18 on p.852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The information can be summarised 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75% of Store A’s customers return there next month. The other 25% change to Store B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80% of Store B’s customers return there next month. The other 20% change to Store A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Fill in the two way frequency table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28800" y="4286160"/>
          <a:ext cx="6095880" cy="18543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rom this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7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o next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ransition diagram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press the 2-way frequency table as a transition diagram (see p.850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How many customers are expected at the store at the end of 2 months if A and B each had 300 customers initially?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Markov systems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let us predict future events given information about current stat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300 customers in each store is 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initial state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r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1" lang="en-AU" sz="3200" spc="-1" strike="noStrike" baseline="-25000">
                <a:solidFill>
                  <a:srgbClr val="000000"/>
                </a:solidFill>
                <a:latin typeface="Cambria Math"/>
              </a:rPr>
              <a:t>0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 This is the state of the problem at the start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During month 1, a transition occurs: soe of A’s customers go to B and vice versa. The state after month 1, 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, can be found by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 Math"/>
              </a:rPr>
              <a:t>0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d T can be represented by matrices, with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28800" y="4786200"/>
            <a:ext cx="2009520" cy="552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1928880" y="5786280"/>
            <a:ext cx="188604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ur transition matrix, T, is similar to our 2-way tabl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fore after 1 month,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928800" y="2714760"/>
            <a:ext cx="300024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857160" y="4429080"/>
            <a:ext cx="2009880" cy="552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1357200" y="5214960"/>
            <a:ext cx="5581800" cy="895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3:51Z</dcterms:created>
  <dc:creator>08843474</dc:creator>
  <dc:description/>
  <dc:language>en-US</dc:language>
  <cp:lastModifiedBy>08843474</cp:lastModifiedBy>
  <dcterms:modified xsi:type="dcterms:W3CDTF">2011-05-23T22:42:03Z</dcterms:modified>
  <cp:revision>8</cp:revision>
  <dc:subject/>
  <dc:title>Matrices</dc:title>
</cp:coreProperties>
</file>